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0C6-4EC4-4164-B4C8-DF9F73AA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22F-DE2A-46E8-B637-6E88B72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9BA-61CF-48EE-A876-2BC6940B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BF9-FCC0-4225-93E5-E87EEE7D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8C7-9C36-4432-865C-49CAED16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75B-804B-4E11-A445-D6AFE688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0FC-45D0-4C9A-9CD6-3B3F5F24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723-600D-4961-B834-B2874F86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BEA-DCCC-46A6-9777-761D9976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DFA-E072-4DBC-BBFB-FE875E9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F3F-28AE-4A00-876A-50EFBF8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48D-CAAD-4A7A-91E1-006A7A2A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B3FF-2366-4D2C-9189-C66E05DF7A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http://static.consumer.es/verduras/imgs/fotografias/1conozcamos/02.jpg&amp;imgrefurl=http://verduras.consumer.es/documentos/conozcamos/imprimir.php&amp;usg=__TMv8d34NeiVGDqK-i1jYFvbzcrQ=&amp;h=205&amp;w=161&amp;sz=20&amp;hl=es&amp;start=79&amp;tbnid=NKAWpMOAKhfKkM:&amp;tbnh=105&amp;tbnw=82&amp;prev=/images%3Fq%3Dclasificacion%2Bde%2Bvitaminas%2Bhidrosolubles%26gbv%3D2%26ndsp%3D18%26hl%3Des%26sa%3DN%26start%3D72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images.google.com.ar/imgres?imgurl=http://www.alimentacion-sana.com.ar/Portal%2520nuevo/imagenesplanillas/originales2/sesamo.jpg&amp;imgrefurl=http://neoalimentossalud.zoomblog.com/cat/10674&amp;usg=__mydMJC4nBhbw6-QS-wiGdXjU7vo=&amp;h=264&amp;w=280&amp;sz=54&amp;hl=es&amp;start=73&amp;tbnid=U-crGy6oi5nczM:&amp;tbnh=107&amp;tbnw=114&amp;prev=/images%3Fq%3Dclasificacion%2Bde%2Bvitaminas%2Bhidrosolubles%26gbv%3D2%26ndsp%3D18%26hl%3Des%26sa%3DN%26start%3D72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m.ar/imgres?imgurl=http://usuarios3.arsystel.com/alesales/making-plastic-using-vitamin-c_9.jpg&amp;imgrefurl=http://diabetesstop.wordpress.com/page/5/&amp;usg=__ybIEIEPD67E5FkpLu_SxXPjpKws=&amp;h=314&amp;w=300&amp;sz=10&amp;hl=es&amp;start=80&amp;tbnid=faG42C0LHvf3hM:&amp;tbnh=117&amp;tbnw=112&amp;prev=/images%3Fq%3Dclasificacion%2Bde%2Bvitaminas%2Bhidrosolubles%26gbv%3D2%26ndsp%3D18%26hl%3Des%26sa%3DN%26start%3D72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images.google.com.ar/imgres?imgurl=http://www.granjasdeluruguay.com.uy/materiales/verduras-00.jpg&amp;imgrefurl=http://www.granjasdeluruguay.com.uy/Propiedades-de-las-verduras.html&amp;usg=__W4z5JteRrifrfRGRwkCA7bGr8PE=&amp;h=233&amp;w=384&amp;sz=32&amp;hl=es&amp;start=49&amp;tbnid=CcgQhy2MHcUoBM:&amp;tbnh=75&amp;tbnw=123&amp;prev=/images%3Fq%3Dclasificacion%2Bde%2Bvitaminas%2Bhidrosolubles%26gbv%3D2%26ndsp%3D18%26hl%3Des%26sa%3DN%26start%3D36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tbn2.google.com/images?q=tbn:NKAWpMOAKhfKkM:http://static.consumer.es/verduras/imgs/fotografias/1conozcamos/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2120" y="714240"/>
            <a:ext cx="2643120" cy="3019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://tbn3.google.com/images?q=tbn:U-crGy6oi5nczM:http://www.alimentacion-sana.com.ar/Portal%2520nuevo/imagenesplanillas/originales2/sesa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4500720"/>
            <a:ext cx="2125800" cy="199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tbn0.google.com/images?q=tbn:faG42C0LHvf3hM:http://usuarios3.arsystel.com/alesales/making-plastic-using-vitamin-c_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880" y="3786120"/>
            <a:ext cx="2351160" cy="245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tbn0.google.com/images?q=tbn:CcgQhy2MHcUoBM:http://www.granjasdeluruguay.com.uy/materiales/verduras-0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57880" y="3143160"/>
            <a:ext cx="2693880" cy="164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tbn0.google.com/images?q=tbn:I4KwKBNfdBz16M:http://www.mygomera.de/fotos/04-09-17_fischer/pescados_800.jpg"/>
          <p:cNvPicPr/>
          <p:nvPr/>
        </p:nvPicPr>
        <p:blipFill>
          <a:blip r:embed="rId9"/>
          <a:stretch/>
        </p:blipFill>
        <p:spPr>
          <a:xfrm>
            <a:off x="3500280" y="785880"/>
            <a:ext cx="2508480" cy="187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tbn2.google.com/images?q=tbn:bHH-147IeshnpM:http://bp2.blogger.com/_EVfrzn4abyg/SIPwI-QeI5I/AAAAAAAAABE/iRWTloSv40U/s400/69.jpg"/>
          <p:cNvPicPr/>
          <p:nvPr/>
        </p:nvPicPr>
        <p:blipFill>
          <a:blip r:embed="rId10"/>
          <a:stretch/>
        </p:blipFill>
        <p:spPr>
          <a:xfrm>
            <a:off x="2714760" y="3786120"/>
            <a:ext cx="1928520" cy="144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rne sana"/>
          <p:cNvPicPr/>
          <p:nvPr/>
        </p:nvPicPr>
        <p:blipFill>
          <a:blip r:embed="rId11"/>
          <a:stretch/>
        </p:blipFill>
        <p:spPr>
          <a:xfrm>
            <a:off x="785880" y="1857240"/>
            <a:ext cx="2592360" cy="1954440"/>
          </a:xfrm>
          <a:prstGeom prst="rect">
            <a:avLst/>
          </a:prstGeom>
          <a:ln w="0">
            <a:noFill/>
          </a:ln>
        </p:spPr>
      </p:pic>
      <p:sp>
        <p:nvSpPr>
          <p:cNvPr id="48" name="10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ANd9GcSKID_fqN0x19q6BOqvGOSMTNEoSZqVAzYg8lIN-PnuUV8RjeQJ"/>
          <p:cNvPicPr/>
          <p:nvPr/>
        </p:nvPicPr>
        <p:blipFill>
          <a:blip r:embed="rId12"/>
          <a:stretch/>
        </p:blipFill>
        <p:spPr>
          <a:xfrm>
            <a:off x="6929280" y="4572000"/>
            <a:ext cx="1378080" cy="2033640"/>
          </a:xfrm>
          <a:prstGeom prst="rect">
            <a:avLst/>
          </a:prstGeom>
          <a:ln w="0">
            <a:noFill/>
          </a:ln>
        </p:spPr>
      </p:pic>
      <p:sp>
        <p:nvSpPr>
          <p:cNvPr id="50" name="16 Rectángulo"/>
          <p:cNvSpPr/>
          <p:nvPr/>
        </p:nvSpPr>
        <p:spPr>
          <a:xfrm>
            <a:off x="214200" y="857160"/>
            <a:ext cx="871560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Bolilla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VITAMIN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opiedades generales. Clasificación: Vitaminas liposolubles e hidrosolubles. Estructura química. Papel funcional de las vitaminas. Provitaminas. Metabolismo. Bioquímica de las avitamin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  <a:ea typeface="Arial"/>
              </a:rPr>
              <a:t>MINERALES: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Principales componentes minerales del organismo. Ubicación celular. Requerimientos. Absorción. Funciones. Homeostasis.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7030a0"/>
                </a:solidFill>
                <a:latin typeface="Arial"/>
              </a:rPr>
              <a:t>CLOR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5111640" y="141300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UID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716360" y="3789360"/>
            <a:ext cx="4176720" cy="21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102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q.cefalorraqu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cr. gastrointestil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24000" y="5300640"/>
            <a:ext cx="38890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75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https://encrypted-tbn2.gstatic.com/images?q=tbn:ANd9GcQeCLb2GigCBT3g_-X8x0UxRJPj-Pm4M4qJgSqCvpUd9mtuwkSL"/>
          <p:cNvPicPr/>
          <p:nvPr/>
        </p:nvPicPr>
        <p:blipFill>
          <a:blip r:embed="rId1"/>
          <a:stretch/>
        </p:blipFill>
        <p:spPr>
          <a:xfrm>
            <a:off x="571680" y="1571760"/>
            <a:ext cx="3971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FUNCIONES DE LOS IONES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de la presión osmótica del líquido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ducción de CLH  en estóm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95280" y="5373720"/>
            <a:ext cx="84963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 INGRESA CONJUNTAMENTE CON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ELIMINACION DE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556000" y="342900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780000" y="350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627280" y="4581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635280" y="4437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2484360" y="220500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4284720" y="1989000"/>
            <a:ext cx="36003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Arial"/>
              </a:rPr>
              <a:t>POTAS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4932360" y="319896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UIDO IN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0920" y="1628640"/>
            <a:ext cx="403380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36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292720" y="5829480"/>
            <a:ext cx="3384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Extracelular  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95280" y="4130640"/>
            <a:ext cx="4032360" cy="1584360"/>
          </a:xfrm>
          <a:prstGeom prst="ellipse">
            <a:avLst/>
          </a:prstGeom>
          <a:solidFill>
            <a:srgbClr val="2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MBA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 flipV="1">
            <a:off x="4500720" y="4279680"/>
            <a:ext cx="502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500720" y="5280120"/>
            <a:ext cx="71892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85880" y="6143760"/>
            <a:ext cx="3384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4-5,5 mEq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https://encrypted-tbn2.gstatic.com/images?q=tbn:ANd9GcTdTuGe47jatmdQ8oKRaHmsH8QyJnxmUQEUYKFfxHjVvumTTIF3"/>
          <p:cNvPicPr/>
          <p:nvPr/>
        </p:nvPicPr>
        <p:blipFill>
          <a:blip r:embed="rId1"/>
          <a:stretch/>
        </p:blipFill>
        <p:spPr>
          <a:xfrm>
            <a:off x="5357880" y="1143000"/>
            <a:ext cx="29289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UNCIONES DE LOS IONES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3700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metabolismo celular (regul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ntenimiento de potencial de membranas en rep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a presión osmótica del líquido intra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quilibrio hidroeléc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26920" y="5805360"/>
            <a:ext cx="7921800" cy="947160"/>
          </a:xfrm>
          <a:prstGeom prst="rect">
            <a:avLst/>
          </a:prstGeom>
          <a:solidFill>
            <a:srgbClr val="f8e6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LA ABSORCION DE K</a:t>
            </a:r>
            <a:r>
              <a:rPr b="1" lang="es-ES_tradnl" sz="2800" spc="-1" strike="noStrike" baseline="30000">
                <a:solidFill>
                  <a:srgbClr val="3333ff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 SE REALIZA A NIVEL 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UENTES NATURALES DE POTA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5256000" cy="1252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LA MAYORIA DE LOS ALIMENTOS FRES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&gt;&gt; BANANAS, VEG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55640" y="3789360"/>
            <a:ext cx="6624720" cy="520560"/>
          </a:xfrm>
          <a:prstGeom prst="rect">
            <a:avLst/>
          </a:prstGeom>
          <a:solidFill>
            <a:srgbClr val="2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esta diaria recomendada: 5 grs.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"/>
          <p:cNvSpPr/>
          <p:nvPr/>
        </p:nvSpPr>
        <p:spPr>
          <a:xfrm>
            <a:off x="468360" y="4797360"/>
            <a:ext cx="1800000" cy="144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2484360" y="4724280"/>
            <a:ext cx="1008000" cy="798840"/>
            <a:chOff x="2484360" y="4724280"/>
            <a:chExt cx="1008000" cy="798840"/>
          </a:xfrm>
        </p:grpSpPr>
        <p:sp>
          <p:nvSpPr>
            <p:cNvPr id="148" name="AutoShape 6"/>
            <p:cNvSpPr/>
            <p:nvPr/>
          </p:nvSpPr>
          <p:spPr>
            <a:xfrm>
              <a:off x="2484360" y="472428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2844720" y="4941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3"/>
          <p:cNvGrpSpPr/>
          <p:nvPr/>
        </p:nvGrpSpPr>
        <p:grpSpPr>
          <a:xfrm>
            <a:off x="2484000" y="5656320"/>
            <a:ext cx="1368720" cy="798840"/>
            <a:chOff x="2484000" y="5656320"/>
            <a:chExt cx="1368720" cy="798840"/>
          </a:xfrm>
        </p:grpSpPr>
        <p:sp>
          <p:nvSpPr>
            <p:cNvPr id="151" name="AutoShape 10"/>
            <p:cNvSpPr/>
            <p:nvPr/>
          </p:nvSpPr>
          <p:spPr>
            <a:xfrm rot="10800000">
              <a:off x="2484000" y="5656320"/>
              <a:ext cx="431640" cy="792000"/>
            </a:xfrm>
            <a:prstGeom prst="upArrow">
              <a:avLst>
                <a:gd name="adj1" fmla="val 50000"/>
                <a:gd name="adj2" fmla="val 45872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2844720" y="58737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12"/>
          <p:cNvSpPr/>
          <p:nvPr/>
        </p:nvSpPr>
        <p:spPr>
          <a:xfrm>
            <a:off x="3995640" y="4869000"/>
            <a:ext cx="4822920" cy="1381680"/>
          </a:xfrm>
          <a:prstGeom prst="rect">
            <a:avLst/>
          </a:prstGeom>
          <a:solidFill>
            <a:srgbClr val="fde7e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IENEN ENFERMEDADES CARDIOVAS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VASODILATAC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9" descr="https://encrypted-tbn2.gstatic.com/images?q=tbn:ANd9GcQHXA-Uc8qwUwBCWGR8GfPVu8YB7F_V_QPyU3EFMEEQJg3WzhOzKQ"/>
          <p:cNvPicPr/>
          <p:nvPr/>
        </p:nvPicPr>
        <p:blipFill>
          <a:blip r:embed="rId1"/>
          <a:stretch/>
        </p:blipFill>
        <p:spPr>
          <a:xfrm>
            <a:off x="5756400" y="1428840"/>
            <a:ext cx="31734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922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GULACION DE POTASIO POR CATECOLAMINAS 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(Adrenalina y Noradrenal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349360"/>
            <a:ext cx="3097440" cy="33847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1763640" y="4292640"/>
            <a:ext cx="1008000" cy="798840"/>
            <a:chOff x="1763640" y="4292640"/>
            <a:chExt cx="1008000" cy="798840"/>
          </a:xfrm>
        </p:grpSpPr>
        <p:sp>
          <p:nvSpPr>
            <p:cNvPr id="160" name="AutoShape 5"/>
            <p:cNvSpPr/>
            <p:nvPr/>
          </p:nvSpPr>
          <p:spPr>
            <a:xfrm>
              <a:off x="1763640" y="429264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"/>
            <p:cNvSpPr/>
            <p:nvPr/>
          </p:nvSpPr>
          <p:spPr>
            <a:xfrm>
              <a:off x="2124000" y="4510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7"/>
          <p:cNvSpPr/>
          <p:nvPr/>
        </p:nvSpPr>
        <p:spPr>
          <a:xfrm rot="10800000">
            <a:off x="3492360" y="1700280"/>
            <a:ext cx="216000" cy="792000"/>
          </a:xfrm>
          <a:prstGeom prst="upArrow">
            <a:avLst>
              <a:gd name="adj1" fmla="val 50000"/>
              <a:gd name="adj2" fmla="val 9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708360" y="191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219640" y="2970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4427640" y="249228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3850920" y="340200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4500720" y="3475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1835280" y="278136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219640" y="4554360"/>
            <a:ext cx="2808360" cy="1373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eptores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adrenérg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4427640" y="407664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H="1">
            <a:off x="3850920" y="49863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4500720" y="5059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GULACION DE POTASIO POR INSUL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1187280" y="1700280"/>
            <a:ext cx="3097440" cy="3384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E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1763640" y="3573360"/>
            <a:ext cx="1008000" cy="798840"/>
            <a:chOff x="1763640" y="3573360"/>
            <a:chExt cx="1008000" cy="798840"/>
          </a:xfrm>
        </p:grpSpPr>
        <p:sp>
          <p:nvSpPr>
            <p:cNvPr id="176" name="AutoShape 8"/>
            <p:cNvSpPr/>
            <p:nvPr/>
          </p:nvSpPr>
          <p:spPr>
            <a:xfrm>
              <a:off x="1763640" y="3573360"/>
              <a:ext cx="431640" cy="792360"/>
            </a:xfrm>
            <a:prstGeom prst="upArrow">
              <a:avLst>
                <a:gd name="adj1" fmla="val 50000"/>
                <a:gd name="adj2" fmla="val 458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2124000" y="37908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AutoShape 11"/>
          <p:cNvSpPr/>
          <p:nvPr/>
        </p:nvSpPr>
        <p:spPr>
          <a:xfrm rot="10800000">
            <a:off x="3924360" y="1125000"/>
            <a:ext cx="216000" cy="792360"/>
          </a:xfrm>
          <a:prstGeom prst="upArrow">
            <a:avLst>
              <a:gd name="adj1" fmla="val 50000"/>
              <a:gd name="adj2" fmla="val 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4140360" y="11984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364000" y="2900520"/>
            <a:ext cx="273708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4788000" y="2349360"/>
            <a:ext cx="576000" cy="863640"/>
          </a:xfrm>
          <a:prstGeom prst="irregularSeal2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 flipH="1">
            <a:off x="3850920" y="3332160"/>
            <a:ext cx="1297080" cy="0"/>
          </a:xfrm>
          <a:prstGeom prst="line">
            <a:avLst/>
          </a:prstGeom>
          <a:ln w="475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500720" y="34052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4500720" y="4654440"/>
            <a:ext cx="502920" cy="505080"/>
          </a:xfrm>
          <a:prstGeom prst="ellipse">
            <a:avLst/>
          </a:prstGeom>
          <a:solidFill>
            <a:srgbClr val="ec37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5651640" y="4149720"/>
            <a:ext cx="2592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-K ATP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5651640" y="4797360"/>
            <a:ext cx="2808000" cy="94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transportador      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835280" y="206208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úscular y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5148360" y="4005360"/>
            <a:ext cx="431640" cy="19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900000" y="126828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11280" y="6021360"/>
            <a:ext cx="7129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: Ingreso K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n hipercal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111640" y="3141720"/>
            <a:ext cx="403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 OSEO Y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716360" y="5373720"/>
            <a:ext cx="4176720" cy="101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q. Intracelula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sm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5 mEq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24000" y="5300640"/>
            <a:ext cx="4319280" cy="132300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50 GRS. TO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5796000" y="1342080"/>
            <a:ext cx="2809440" cy="1331280"/>
            <a:chOff x="5796000" y="1342080"/>
            <a:chExt cx="2809440" cy="1331280"/>
          </a:xfrm>
        </p:grpSpPr>
        <p:pic>
          <p:nvPicPr>
            <p:cNvPr id="196" name="Picture 8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 rot="16200000">
              <a:off x="6575760" y="643680"/>
              <a:ext cx="12495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9"/>
            <p:cNvSpPr/>
            <p:nvPr/>
          </p:nvSpPr>
          <p:spPr>
            <a:xfrm rot="16200000">
              <a:off x="7113600" y="2211480"/>
              <a:ext cx="26712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 rot="16200000">
              <a:off x="7206480" y="1146960"/>
              <a:ext cx="266400" cy="65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2" descr="https://encrypted-tbn1.gstatic.com/images?q=tbn:ANd9GcTh3Qvf1EYaPQDw9Yr06uTVd1wZAGrdm-r6U7fQmu2V8jymtP-d7w"/>
          <p:cNvPicPr/>
          <p:nvPr/>
        </p:nvPicPr>
        <p:blipFill>
          <a:blip r:embed="rId2"/>
          <a:stretch/>
        </p:blipFill>
        <p:spPr>
          <a:xfrm>
            <a:off x="285840" y="1228680"/>
            <a:ext cx="4562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FUNCIONES DEL CAL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neralización de huesos y 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gundo mensaj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acción 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citabilidad  nervi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agulación de la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https://encrypted-tbn3.gstatic.com/images?q=tbn:ANd9GcT1nB0xJtPIiNaEz6p6q1-N9a09JX9ZmlsZudzO7mSk0MsYDVfFbw"/>
          <p:cNvPicPr/>
          <p:nvPr/>
        </p:nvPicPr>
        <p:blipFill>
          <a:blip r:embed="rId1"/>
          <a:stretch/>
        </p:blipFill>
        <p:spPr>
          <a:xfrm>
            <a:off x="7072200" y="1857240"/>
            <a:ext cx="1571760" cy="1177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https://encrypted-tbn2.gstatic.com/images?q=tbn:ANd9GcSnLzhpTIn6B_kgiTEfASGAyDrB3gd5x_ws2Tjd9bUCVRCzz6WBrQ"/>
          <p:cNvPicPr/>
          <p:nvPr/>
        </p:nvPicPr>
        <p:blipFill>
          <a:blip r:embed="rId2"/>
          <a:stretch/>
        </p:blipFill>
        <p:spPr>
          <a:xfrm>
            <a:off x="5214960" y="2143080"/>
            <a:ext cx="1501920" cy="175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https://encrypted-tbn1.gstatic.com/images?q=tbn:ANd9GcSF3LujK623MQL9EsVTXYFVnI5sdMlk9kc8qOVVLN3EkKRvau1soA"/>
          <p:cNvPicPr/>
          <p:nvPr/>
        </p:nvPicPr>
        <p:blipFill>
          <a:blip r:embed="rId3"/>
          <a:stretch/>
        </p:blipFill>
        <p:spPr>
          <a:xfrm>
            <a:off x="6891480" y="3500280"/>
            <a:ext cx="18954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19280" y="189000"/>
            <a:ext cx="6481800" cy="642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9280" y="981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ASIFICACION DE LOS 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2324160"/>
            <a:ext cx="4176720" cy="42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293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H. DE CARB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293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PROTE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293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LIP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0720" y="2349360"/>
            <a:ext cx="431928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156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VITAM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156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baseline="10000">
                <a:solidFill>
                  <a:srgbClr val="c00000"/>
                </a:solidFill>
                <a:latin typeface="Arial"/>
              </a:rPr>
              <a:t>MINE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-2156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baseline="10000">
                <a:solidFill>
                  <a:srgbClr val="000000"/>
                </a:solidFill>
                <a:latin typeface="Arial"/>
              </a:rPr>
              <a:t>OLIGOELE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2400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A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572000" y="25495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cc"/>
                </a:solidFill>
                <a:latin typeface="Arial"/>
                <a:ea typeface="Arial"/>
              </a:rPr>
              <a:t>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FUENTES NATURALES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207880"/>
            <a:ext cx="619128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ECHE Y SUS DERI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24000" y="3701880"/>
            <a:ext cx="8820000" cy="311544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350-55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1-10 años): 8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olescentes, embarazo y lactanc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.2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800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https://encrypted-tbn2.gstatic.com/images?q=tbn:ANd9GcTNMBkj5tJvLU9Bl3CFiadTAlyfvC9jQpSsNyXsMw2G8aHLZvvbDg"/>
          <p:cNvPicPr/>
          <p:nvPr/>
        </p:nvPicPr>
        <p:blipFill>
          <a:blip r:embed="rId1"/>
          <a:stretch/>
        </p:blipFill>
        <p:spPr>
          <a:xfrm>
            <a:off x="6072120" y="1643040"/>
            <a:ext cx="2979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ABSOR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00000" y="3281400"/>
            <a:ext cx="1344600" cy="1871640"/>
            <a:chOff x="900000" y="3281400"/>
            <a:chExt cx="1344600" cy="1871640"/>
          </a:xfrm>
        </p:grpSpPr>
        <p:sp>
          <p:nvSpPr>
            <p:cNvPr id="211" name="Freeform 4"/>
            <p:cNvSpPr/>
            <p:nvPr/>
          </p:nvSpPr>
          <p:spPr>
            <a:xfrm>
              <a:off x="900000" y="328140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1163520" y="328932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 rot="19789800">
            <a:off x="684720" y="493668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 flipH="1">
            <a:off x="1657440" y="2705040"/>
            <a:ext cx="1296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1258920" y="184140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4570560" y="1625760"/>
            <a:ext cx="3384360" cy="15721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 (+)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USION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4500720" y="4869000"/>
            <a:ext cx="1800000" cy="433080"/>
          </a:xfrm>
          <a:prstGeom prst="rightArrow">
            <a:avLst>
              <a:gd name="adj1" fmla="val 50000"/>
              <a:gd name="adj2" fmla="val 103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6443640" y="422100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QUIDO INTERST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5"/>
          <p:cNvSpPr/>
          <p:nvPr/>
        </p:nvSpPr>
        <p:spPr>
          <a:xfrm>
            <a:off x="4500720" y="5373720"/>
            <a:ext cx="1439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O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 rot="2503800">
            <a:off x="3562920" y="3860280"/>
            <a:ext cx="2376360" cy="459720"/>
          </a:xfrm>
          <a:prstGeom prst="rect">
            <a:avLst/>
          </a:prstGeom>
          <a:solidFill>
            <a:srgbClr val="ebf9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-Calbin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7"/>
          <p:cNvSpPr/>
          <p:nvPr/>
        </p:nvSpPr>
        <p:spPr>
          <a:xfrm>
            <a:off x="6227640" y="3645000"/>
            <a:ext cx="166680" cy="266364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0"/>
          <p:cNvGrpSpPr/>
          <p:nvPr/>
        </p:nvGrpSpPr>
        <p:grpSpPr>
          <a:xfrm>
            <a:off x="3635280" y="3860640"/>
            <a:ext cx="720720" cy="936720"/>
            <a:chOff x="3635280" y="3860640"/>
            <a:chExt cx="720720" cy="936720"/>
          </a:xfrm>
        </p:grpSpPr>
        <p:sp>
          <p:nvSpPr>
            <p:cNvPr id="224" name="Oval 18"/>
            <p:cNvSpPr/>
            <p:nvPr/>
          </p:nvSpPr>
          <p:spPr>
            <a:xfrm>
              <a:off x="3635280" y="3933720"/>
              <a:ext cx="720720" cy="863640"/>
            </a:xfrm>
            <a:prstGeom prst="ellipse">
              <a:avLst/>
            </a:prstGeom>
            <a:solidFill>
              <a:srgbClr val="ec372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3781440" y="3860640"/>
              <a:ext cx="503280" cy="648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Oval 21"/>
          <p:cNvSpPr/>
          <p:nvPr/>
        </p:nvSpPr>
        <p:spPr>
          <a:xfrm>
            <a:off x="7380360" y="5516640"/>
            <a:ext cx="1008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6588000" y="3429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mbrana se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 flipH="1">
            <a:off x="6372360" y="3716280"/>
            <a:ext cx="28728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REGULACION DE LA ABSORCION DE CALCIO EN 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611280" y="2133720"/>
            <a:ext cx="302400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CI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CT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539640" y="4365720"/>
            <a:ext cx="3024360" cy="19429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FI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IDO OXA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780000" y="2565360"/>
            <a:ext cx="1296720" cy="432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3851280" y="5157720"/>
            <a:ext cx="1297080" cy="43200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219640" y="2060640"/>
            <a:ext cx="3240000" cy="94716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N LA ABSOR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292720" y="4941720"/>
            <a:ext cx="3240000" cy="1595880"/>
          </a:xfrm>
          <a:prstGeom prst="rect">
            <a:avLst/>
          </a:prstGeom>
          <a:solidFill>
            <a:srgbClr val="ea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ALES INSOL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elimin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CALCIO EN EL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00000" y="2708280"/>
            <a:ext cx="34560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iónico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00000" y="3645000"/>
            <a:ext cx="540072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unido a proteínas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900000" y="4869000"/>
            <a:ext cx="547236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lcio no ionizable en forma de sales no disociables 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1"/>
          <p:cNvGrpSpPr/>
          <p:nvPr/>
        </p:nvGrpSpPr>
        <p:grpSpPr>
          <a:xfrm>
            <a:off x="4356000" y="1628640"/>
            <a:ext cx="4392720" cy="1943280"/>
            <a:chOff x="4356000" y="1628640"/>
            <a:chExt cx="4392720" cy="1943280"/>
          </a:xfrm>
        </p:grpSpPr>
        <p:sp>
          <p:nvSpPr>
            <p:cNvPr id="241" name="Oval 9"/>
            <p:cNvSpPr/>
            <p:nvPr/>
          </p:nvSpPr>
          <p:spPr>
            <a:xfrm>
              <a:off x="5796000" y="1628640"/>
              <a:ext cx="2952720" cy="194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ORMA ACTIV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>
              <a:off x="4356000" y="2924280"/>
              <a:ext cx="1440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ELIMINACION DE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28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&lt;&lt;&lt; SU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C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2700360" y="1916280"/>
            <a:ext cx="1584360" cy="433080"/>
          </a:xfrm>
          <a:prstGeom prst="rightArrow">
            <a:avLst>
              <a:gd name="adj1" fmla="val 50000"/>
              <a:gd name="adj2" fmla="val 914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4427640" y="1484280"/>
            <a:ext cx="3673440" cy="165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filtra el 60%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absorbe el 5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HOMEOSTASIS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2843280" y="1197000"/>
            <a:ext cx="331308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. PARATIRO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50920" y="3284640"/>
            <a:ext cx="259236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,25 (OH)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826920" y="177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[Ca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68360" y="1268280"/>
            <a:ext cx="287280" cy="960480"/>
          </a:xfrm>
          <a:prstGeom prst="downArrow">
            <a:avLst>
              <a:gd name="adj1" fmla="val 50000"/>
              <a:gd name="adj2" fmla="val 8358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2050920" y="1773360"/>
            <a:ext cx="720720" cy="179280"/>
          </a:xfrm>
          <a:custGeom>
            <a:avLst/>
            <a:gdLst>
              <a:gd name="textAreaLeft" fmla="*/ 126000 w 720720"/>
              <a:gd name="textAreaRight" fmla="*/ 522720 w 720720"/>
              <a:gd name="textAreaTop" fmla="*/ 23760 h 179280"/>
              <a:gd name="textAreaBottom" fmla="*/ 155520 h 17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6443640" y="1413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vilización    de cal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1"/>
          <p:cNvGrpSpPr/>
          <p:nvPr/>
        </p:nvGrpSpPr>
        <p:grpSpPr>
          <a:xfrm>
            <a:off x="8317080" y="1844640"/>
            <a:ext cx="629640" cy="1746360"/>
            <a:chOff x="8317080" y="1844640"/>
            <a:chExt cx="629640" cy="1746360"/>
          </a:xfrm>
        </p:grpSpPr>
        <p:pic>
          <p:nvPicPr>
            <p:cNvPr id="255" name="Picture 12" descr="metabolismo del Ca"/>
            <p:cNvPicPr/>
            <p:nvPr/>
          </p:nvPicPr>
          <p:blipFill>
            <a:blip r:embed="rId1"/>
            <a:srcRect l="70378" t="38198" r="23655" b="36340"/>
            <a:stretch/>
          </p:blipFill>
          <p:spPr>
            <a:xfrm>
              <a:off x="8317080" y="184464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3"/>
            <p:cNvSpPr/>
            <p:nvPr/>
          </p:nvSpPr>
          <p:spPr>
            <a:xfrm>
              <a:off x="8317080" y="254268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"/>
            <p:cNvSpPr/>
            <p:nvPr/>
          </p:nvSpPr>
          <p:spPr>
            <a:xfrm>
              <a:off x="8820720" y="26002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3564000" y="4509000"/>
            <a:ext cx="1746360" cy="629640"/>
            <a:chOff x="3564000" y="4509000"/>
            <a:chExt cx="1746360" cy="629640"/>
          </a:xfrm>
        </p:grpSpPr>
        <p:pic>
          <p:nvPicPr>
            <p:cNvPr id="259" name="Picture 16" descr="metabolismo del Ca"/>
            <p:cNvPicPr/>
            <p:nvPr/>
          </p:nvPicPr>
          <p:blipFill>
            <a:blip r:embed="rId2"/>
            <a:srcRect l="70378" t="38198" r="23655" b="36340"/>
            <a:stretch/>
          </p:blipFill>
          <p:spPr>
            <a:xfrm rot="16200000">
              <a:off x="4141440" y="3969720"/>
              <a:ext cx="59112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17"/>
            <p:cNvSpPr/>
            <p:nvPr/>
          </p:nvSpPr>
          <p:spPr>
            <a:xfrm rot="16200000">
              <a:off x="4402800" y="4871520"/>
              <a:ext cx="12636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8"/>
            <p:cNvSpPr/>
            <p:nvPr/>
          </p:nvSpPr>
          <p:spPr>
            <a:xfrm rot="16200000">
              <a:off x="4460400" y="4367880"/>
              <a:ext cx="126000" cy="40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9"/>
          <p:cNvGrpSpPr/>
          <p:nvPr/>
        </p:nvGrpSpPr>
        <p:grpSpPr>
          <a:xfrm>
            <a:off x="3924360" y="3357720"/>
            <a:ext cx="576000" cy="939600"/>
            <a:chOff x="3924360" y="3357720"/>
            <a:chExt cx="576000" cy="939600"/>
          </a:xfrm>
        </p:grpSpPr>
        <p:sp>
          <p:nvSpPr>
            <p:cNvPr id="263" name="Freeform 20"/>
            <p:cNvSpPr/>
            <p:nvPr/>
          </p:nvSpPr>
          <p:spPr>
            <a:xfrm>
              <a:off x="3924360" y="3357720"/>
              <a:ext cx="514440" cy="93960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4037040" y="3361680"/>
              <a:ext cx="463320" cy="8672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2"/>
          <p:cNvSpPr/>
          <p:nvPr/>
        </p:nvSpPr>
        <p:spPr>
          <a:xfrm>
            <a:off x="4932360" y="3213000"/>
            <a:ext cx="1800360" cy="1015920"/>
          </a:xfrm>
          <a:prstGeom prst="rect">
            <a:avLst/>
          </a:prstGeom>
          <a:solidFill>
            <a:srgbClr val="888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5651640" y="4365720"/>
            <a:ext cx="2520720" cy="1015920"/>
          </a:xfrm>
          <a:prstGeom prst="rect">
            <a:avLst/>
          </a:prstGeom>
          <a:solidFill>
            <a:srgbClr val="888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250920" y="5084640"/>
            <a:ext cx="259236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>
            <a:off x="2916360" y="580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 flipV="1">
            <a:off x="3059280" y="3644640"/>
            <a:ext cx="79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>
            <a:off x="3059280" y="4149720"/>
            <a:ext cx="50472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9"/>
          <p:cNvSpPr/>
          <p:nvPr/>
        </p:nvSpPr>
        <p:spPr>
          <a:xfrm>
            <a:off x="5292720" y="4869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3924360" y="5661000"/>
            <a:ext cx="44640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hiben la resorción ó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IERR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MOBLOBI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OGLOB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ITOCR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TEINAS Fe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TALASAS Y PEROXID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543640" y="191628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140360" y="306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ransporte de e</a:t>
            </a:r>
            <a:r>
              <a:rPr b="1" lang="es-ES_tradnl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211640" y="458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liminacio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3780000" y="544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5003640" y="1700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4067280" y="2852640"/>
            <a:ext cx="431640" cy="936720"/>
          </a:xfrm>
          <a:custGeom>
            <a:avLst/>
            <a:gdLst>
              <a:gd name="textAreaLeft" fmla="*/ 0 w 431640"/>
              <a:gd name="textAreaRight" fmla="*/ 155880 w 43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3203640" y="5661000"/>
            <a:ext cx="7207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IERRO</a:t>
            </a: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UENTE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" y="1285560"/>
            <a:ext cx="8229600" cy="86364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IMENTOS DE ORIGEN ANIMAL Y VEGETALES VE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81080" y="3413160"/>
            <a:ext cx="8820000" cy="181800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Ingesta diaria recome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Lactan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Suplementos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iñ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y Adul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18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mbarazada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&gt;  18 mgrs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250920" y="5348160"/>
            <a:ext cx="2376360" cy="129564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érdida de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3419640" y="5270400"/>
            <a:ext cx="5327640" cy="1595880"/>
          </a:xfrm>
          <a:prstGeom prst="rect">
            <a:avLst/>
          </a:prstGeom>
          <a:solidFill>
            <a:srgbClr val="d75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ambio cél. Intestinales y epitel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nstr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2771640" y="592596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https://bellezadesalud.files.wordpress.com/2012/05/vegetales-hoja-verde-oscura-lavidale.jpeg"/>
          <p:cNvPicPr/>
          <p:nvPr/>
        </p:nvPicPr>
        <p:blipFill>
          <a:blip r:embed="rId1"/>
          <a:stretch/>
        </p:blipFill>
        <p:spPr>
          <a:xfrm>
            <a:off x="7107120" y="1571760"/>
            <a:ext cx="1809720" cy="1785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http://thumbs.dreamstime.com/x/iron-rich-foods-19497368.jpg"/>
          <p:cNvPicPr/>
          <p:nvPr/>
        </p:nvPicPr>
        <p:blipFill>
          <a:blip r:embed="rId2"/>
          <a:stretch/>
        </p:blipFill>
        <p:spPr>
          <a:xfrm>
            <a:off x="5357880" y="1714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4"/>
          <p:cNvSpPr/>
          <p:nvPr/>
        </p:nvSpPr>
        <p:spPr>
          <a:xfrm>
            <a:off x="0" y="4797360"/>
            <a:ext cx="4284720" cy="2060640"/>
          </a:xfrm>
          <a:prstGeom prst="rect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BSORCION DE HI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727920" y="2530080"/>
            <a:ext cx="1661760" cy="2093400"/>
            <a:chOff x="727920" y="2530080"/>
            <a:chExt cx="1661760" cy="2093400"/>
          </a:xfrm>
        </p:grpSpPr>
        <p:sp>
          <p:nvSpPr>
            <p:cNvPr id="293" name="Freeform 4"/>
            <p:cNvSpPr/>
            <p:nvPr/>
          </p:nvSpPr>
          <p:spPr>
            <a:xfrm rot="20914200">
              <a:off x="901440" y="265140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 rot="20914200">
              <a:off x="1148040" y="261972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6"/>
          <p:cNvSpPr/>
          <p:nvPr/>
        </p:nvSpPr>
        <p:spPr>
          <a:xfrm rot="19789800">
            <a:off x="1259280" y="378900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 flipH="1">
            <a:off x="2195280" y="2997360"/>
            <a:ext cx="541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8"/>
          <p:cNvSpPr/>
          <p:nvPr/>
        </p:nvSpPr>
        <p:spPr>
          <a:xfrm>
            <a:off x="1116000" y="1628640"/>
            <a:ext cx="30956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odeno yey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570560" y="1625760"/>
            <a:ext cx="3384360" cy="1015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él.borde cepil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3778200" y="1625760"/>
            <a:ext cx="649440" cy="215640"/>
          </a:xfrm>
          <a:custGeom>
            <a:avLst/>
            <a:gdLst>
              <a:gd name="textAreaLeft" fmla="*/ 113400 w 649440"/>
              <a:gd name="textAreaRight" fmla="*/ 470880 w 6494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>
            <a:off x="3635280" y="3500280"/>
            <a:ext cx="302436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>
            <a:off x="6804000" y="3645000"/>
            <a:ext cx="79236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>
            <a:off x="6732720" y="5157720"/>
            <a:ext cx="1657080" cy="1152720"/>
          </a:xfrm>
          <a:prstGeom prst="ellipse">
            <a:avLst/>
          </a:prstGeom>
          <a:solidFill>
            <a:srgbClr val="f8a6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+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>
            <a:off x="5003640" y="357336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6"/>
          <p:cNvSpPr/>
          <p:nvPr/>
        </p:nvSpPr>
        <p:spPr>
          <a:xfrm>
            <a:off x="3708360" y="4221000"/>
            <a:ext cx="792360" cy="115272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7"/>
          <p:cNvSpPr/>
          <p:nvPr/>
        </p:nvSpPr>
        <p:spPr>
          <a:xfrm>
            <a:off x="5148360" y="4941720"/>
            <a:ext cx="12952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rri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8"/>
          <p:cNvSpPr/>
          <p:nvPr/>
        </p:nvSpPr>
        <p:spPr>
          <a:xfrm flipH="1">
            <a:off x="4571640" y="4292640"/>
            <a:ext cx="431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9"/>
          <p:cNvSpPr/>
          <p:nvPr/>
        </p:nvSpPr>
        <p:spPr>
          <a:xfrm>
            <a:off x="4427640" y="3789360"/>
            <a:ext cx="360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0"/>
          <p:cNvSpPr/>
          <p:nvPr/>
        </p:nvSpPr>
        <p:spPr>
          <a:xfrm flipH="1">
            <a:off x="3203640" y="5229360"/>
            <a:ext cx="720720" cy="2872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539640" y="5229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Apo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684360" y="6093000"/>
            <a:ext cx="223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Transfer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3"/>
          <p:cNvSpPr/>
          <p:nvPr/>
        </p:nvSpPr>
        <p:spPr>
          <a:xfrm>
            <a:off x="1763640" y="57340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5"/>
          <p:cNvSpPr/>
          <p:nvPr/>
        </p:nvSpPr>
        <p:spPr>
          <a:xfrm>
            <a:off x="0" y="4941720"/>
            <a:ext cx="46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  L ASM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6"/>
          <p:cNvSpPr/>
          <p:nvPr/>
        </p:nvSpPr>
        <p:spPr>
          <a:xfrm>
            <a:off x="3851280" y="2887560"/>
            <a:ext cx="2089080" cy="828720"/>
          </a:xfrm>
          <a:prstGeom prst="pie">
            <a:avLst/>
          </a:prstGeom>
          <a:noFill/>
          <a:ln w="34920">
            <a:solidFill>
              <a:srgbClr val="00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8"/>
          <p:cNvSpPr/>
          <p:nvPr/>
        </p:nvSpPr>
        <p:spPr>
          <a:xfrm>
            <a:off x="8101080" y="3645000"/>
            <a:ext cx="792000" cy="1152360"/>
          </a:xfrm>
          <a:prstGeom prst="ellipse">
            <a:avLst/>
          </a:prstGeom>
          <a:solidFill>
            <a:srgbClr val="ebf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9"/>
          <p:cNvSpPr/>
          <p:nvPr/>
        </p:nvSpPr>
        <p:spPr>
          <a:xfrm flipH="1">
            <a:off x="7740720" y="4292640"/>
            <a:ext cx="287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0"/>
          <p:cNvSpPr/>
          <p:nvPr/>
        </p:nvSpPr>
        <p:spPr>
          <a:xfrm>
            <a:off x="7596360" y="3573360"/>
            <a:ext cx="431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1"/>
          <p:cNvSpPr/>
          <p:nvPr/>
        </p:nvSpPr>
        <p:spPr>
          <a:xfrm flipH="1" flipV="1">
            <a:off x="6300720" y="4797000"/>
            <a:ext cx="719280" cy="360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2"/>
          <p:cNvSpPr/>
          <p:nvPr/>
        </p:nvSpPr>
        <p:spPr>
          <a:xfrm flipH="1">
            <a:off x="6443640" y="4294080"/>
            <a:ext cx="503280" cy="28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3"/>
          <p:cNvSpPr/>
          <p:nvPr/>
        </p:nvSpPr>
        <p:spPr>
          <a:xfrm>
            <a:off x="4572000" y="4941720"/>
            <a:ext cx="50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4"/>
          <p:cNvSpPr/>
          <p:nvPr/>
        </p:nvSpPr>
        <p:spPr>
          <a:xfrm flipH="1" flipV="1">
            <a:off x="4500360" y="5157360"/>
            <a:ext cx="4316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ciencia de Hierro en la di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88908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emia ferropr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ño prema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284720" y="2205000"/>
            <a:ext cx="4319640" cy="52056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lta carne en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4284720" y="3429000"/>
            <a:ext cx="3960720" cy="1036080"/>
          </a:xfrm>
          <a:prstGeom prst="rect">
            <a:avLst/>
          </a:prstGeom>
          <a:solidFill>
            <a:srgbClr val="f8a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posee reser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hí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993080" cy="83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IOELEMENTOS  </a:t>
            </a: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6160" y="907920"/>
            <a:ext cx="8280360" cy="5950080"/>
          </a:xfrm>
          <a:prstGeom prst="rect">
            <a:avLst/>
          </a:prstGeom>
          <a:solidFill>
            <a:srgbClr val="faed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MENTOS SECUNDARIOS                       (Ma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LIGOELEMENTOS                          (Microele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CTROL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5364000" y="907920"/>
            <a:ext cx="201636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O, C, H,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5796000" y="2349360"/>
            <a:ext cx="252108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 P, S, M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5292720" y="4005360"/>
            <a:ext cx="331308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F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, F, Cu, I,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Zn, Co, Mo, S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r 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3780000" y="5634000"/>
            <a:ext cx="230472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Cl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Arial"/>
              </a:rPr>
              <a:t>, K</a:t>
            </a:r>
            <a:r>
              <a:rPr b="1" lang="es-ES_tradnl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326" name="Group 3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327" name="Group 4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328" name="Group 5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329" name="Picture 6" descr="ANd9GcRohrk3WzNfjQ0S1PJH4iY8DTtql8PnjnvEObAfzfZ7-E0CxFv2Tg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0" name="Rectangle 7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8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Rectangle 9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10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MANEJO RENAL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5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339" name="Text Box 16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7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Line 18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5148360" y="2492280"/>
            <a:ext cx="259236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0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344" name="Text Box 21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23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347" name="Text Box 24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6"/>
          <p:cNvSpPr/>
          <p:nvPr/>
        </p:nvSpPr>
        <p:spPr>
          <a:xfrm>
            <a:off x="3492360" y="4292640"/>
            <a:ext cx="54356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(99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ADOR DE SODIO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324000" y="1268280"/>
            <a:ext cx="4895640" cy="5373720"/>
            <a:chOff x="324000" y="1268280"/>
            <a:chExt cx="4895640" cy="5373720"/>
          </a:xfrm>
        </p:grpSpPr>
        <p:grpSp>
          <p:nvGrpSpPr>
            <p:cNvPr id="351" name="Group 3"/>
            <p:cNvGrpSpPr/>
            <p:nvPr/>
          </p:nvGrpSpPr>
          <p:grpSpPr>
            <a:xfrm>
              <a:off x="539640" y="1268280"/>
              <a:ext cx="4680000" cy="5373720"/>
              <a:chOff x="539640" y="1268280"/>
              <a:chExt cx="4680000" cy="5373720"/>
            </a:xfrm>
          </p:grpSpPr>
          <p:grpSp>
            <p:nvGrpSpPr>
              <p:cNvPr id="352" name="Group 4"/>
              <p:cNvGrpSpPr/>
              <p:nvPr/>
            </p:nvGrpSpPr>
            <p:grpSpPr>
              <a:xfrm>
                <a:off x="539640" y="1268280"/>
                <a:ext cx="4492800" cy="5373720"/>
                <a:chOff x="539640" y="1268280"/>
                <a:chExt cx="4492800" cy="5373720"/>
              </a:xfrm>
            </p:grpSpPr>
            <p:grpSp>
              <p:nvGrpSpPr>
                <p:cNvPr id="353" name="Group 5"/>
                <p:cNvGrpSpPr/>
                <p:nvPr/>
              </p:nvGrpSpPr>
              <p:grpSpPr>
                <a:xfrm>
                  <a:off x="539640" y="1268280"/>
                  <a:ext cx="4492800" cy="5373720"/>
                  <a:chOff x="539640" y="1268280"/>
                  <a:chExt cx="4492800" cy="5373720"/>
                </a:xfrm>
              </p:grpSpPr>
              <p:pic>
                <p:nvPicPr>
                  <p:cNvPr id="354" name="Picture 6" descr="ANd9GcRohrk3WzNfjQ0S1PJH4iY8DTtql8PnjnvEObAfzfZ7-E0CxFv2Tg"/>
                  <p:cNvPicPr/>
                  <p:nvPr/>
                </p:nvPicPr>
                <p:blipFill>
                  <a:blip r:embed="rId1"/>
                  <a:srcRect l="47816" t="4977" r="1643" b="3841"/>
                  <a:stretch/>
                </p:blipFill>
                <p:spPr>
                  <a:xfrm>
                    <a:off x="539640" y="1268280"/>
                    <a:ext cx="4492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" name="Rectangle 7"/>
                  <p:cNvSpPr/>
                  <p:nvPr/>
                </p:nvSpPr>
                <p:spPr>
                  <a:xfrm>
                    <a:off x="1692360" y="1341360"/>
                    <a:ext cx="2879640" cy="5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" name="Line 8"/>
                <p:cNvSpPr/>
                <p:nvPr/>
              </p:nvSpPr>
              <p:spPr>
                <a:xfrm>
                  <a:off x="3348000" y="2060640"/>
                  <a:ext cx="0" cy="576360"/>
                </a:xfrm>
                <a:prstGeom prst="line">
                  <a:avLst/>
                </a:prstGeom>
                <a:ln w="108000">
                  <a:solidFill>
                    <a:srgbClr val="eaa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Rectangle 9"/>
              <p:cNvSpPr/>
              <p:nvPr/>
            </p:nvSpPr>
            <p:spPr>
              <a:xfrm>
                <a:off x="3851280" y="5950080"/>
                <a:ext cx="1368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Rectangle 10"/>
            <p:cNvSpPr/>
            <p:nvPr/>
          </p:nvSpPr>
          <p:spPr>
            <a:xfrm>
              <a:off x="324000" y="5805360"/>
              <a:ext cx="136836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030a0"/>
                </a:solidFill>
                <a:latin typeface="Arial"/>
              </a:rPr>
              <a:t>MANEJO RENAL DEL CLOR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1908000" y="6035760"/>
            <a:ext cx="1727280" cy="825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A DE HEN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4788000" y="1413000"/>
            <a:ext cx="1511280" cy="825480"/>
          </a:xfrm>
          <a:prstGeom prst="rect">
            <a:avLst/>
          </a:prstGeom>
          <a:solidFill>
            <a:srgbClr val="2d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UBULO  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179280" y="1197000"/>
            <a:ext cx="1476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F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5"/>
          <p:cNvGrpSpPr/>
          <p:nvPr/>
        </p:nvGrpSpPr>
        <p:grpSpPr>
          <a:xfrm>
            <a:off x="2195640" y="1125360"/>
            <a:ext cx="1800000" cy="1366920"/>
            <a:chOff x="2195640" y="1125360"/>
            <a:chExt cx="1800000" cy="1366920"/>
          </a:xfrm>
        </p:grpSpPr>
        <p:sp>
          <p:nvSpPr>
            <p:cNvPr id="364" name="Text Box 16"/>
            <p:cNvSpPr/>
            <p:nvPr/>
          </p:nvSpPr>
          <p:spPr>
            <a:xfrm>
              <a:off x="2195640" y="1125360"/>
              <a:ext cx="1800000" cy="825480"/>
            </a:xfrm>
            <a:prstGeom prst="rect">
              <a:avLst/>
            </a:prstGeom>
            <a:solidFill>
              <a:srgbClr val="def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PROX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H="1">
              <a:off x="2700360" y="1916280"/>
              <a:ext cx="21600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Line 18"/>
          <p:cNvSpPr/>
          <p:nvPr/>
        </p:nvSpPr>
        <p:spPr>
          <a:xfrm flipH="1">
            <a:off x="3564000" y="2060640"/>
            <a:ext cx="1224000" cy="72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48360" y="2492280"/>
            <a:ext cx="259236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LTRAD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liminación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0" y="3933360"/>
            <a:ext cx="2411280" cy="1395360"/>
            <a:chOff x="0" y="3933360"/>
            <a:chExt cx="2411280" cy="1395360"/>
          </a:xfrm>
        </p:grpSpPr>
        <p:sp>
          <p:nvSpPr>
            <p:cNvPr id="369" name="Text Box 21"/>
            <p:cNvSpPr/>
            <p:nvPr/>
          </p:nvSpPr>
          <p:spPr>
            <a:xfrm>
              <a:off x="0" y="4869000"/>
              <a:ext cx="24112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MERU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2"/>
            <p:cNvSpPr/>
            <p:nvPr/>
          </p:nvSpPr>
          <p:spPr>
            <a:xfrm flipV="1">
              <a:off x="1835280" y="3933360"/>
              <a:ext cx="0" cy="863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3"/>
          <p:cNvGrpSpPr/>
          <p:nvPr/>
        </p:nvGrpSpPr>
        <p:grpSpPr>
          <a:xfrm>
            <a:off x="3924000" y="4292640"/>
            <a:ext cx="2448360" cy="825480"/>
            <a:chOff x="3924000" y="4292640"/>
            <a:chExt cx="2448360" cy="825480"/>
          </a:xfrm>
        </p:grpSpPr>
        <p:sp>
          <p:nvSpPr>
            <p:cNvPr id="372" name="Text Box 24"/>
            <p:cNvSpPr/>
            <p:nvPr/>
          </p:nvSpPr>
          <p:spPr>
            <a:xfrm>
              <a:off x="4427640" y="4292640"/>
              <a:ext cx="1944720" cy="825480"/>
            </a:xfrm>
            <a:prstGeom prst="rect">
              <a:avLst/>
            </a:prstGeom>
            <a:solidFill>
              <a:srgbClr val="008d8a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TUBULO   COL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5"/>
            <p:cNvSpPr/>
            <p:nvPr/>
          </p:nvSpPr>
          <p:spPr>
            <a:xfrm flipH="1">
              <a:off x="3924000" y="494172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26"/>
          <p:cNvSpPr/>
          <p:nvPr/>
        </p:nvSpPr>
        <p:spPr>
          <a:xfrm>
            <a:off x="2987640" y="4292640"/>
            <a:ext cx="5940360" cy="2544480"/>
          </a:xfrm>
          <a:prstGeom prst="rect">
            <a:avLst/>
          </a:prstGeom>
          <a:solidFill>
            <a:srgbClr val="ddddd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ABSORCION (99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PASIVO PARACELULAR  </a:t>
            </a: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(+ H</a:t>
            </a:r>
            <a:r>
              <a:rPr b="1" lang="es-ES_tradnl" sz="2400" spc="-1" strike="noStrike" baseline="-25000">
                <a:solidFill>
                  <a:srgbClr val="80808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808080"/>
                </a:solidFill>
                <a:latin typeface="Arial"/>
              </a:rPr>
              <a:t>O):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ACTIV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+/K+/2Cl-: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.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SO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0" y="1844640"/>
            <a:ext cx="4176720" cy="331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q. Extracelular   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acelular            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ues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85840" y="4000680"/>
            <a:ext cx="4071960" cy="1169280"/>
          </a:xfrm>
          <a:prstGeom prst="rect">
            <a:avLst/>
          </a:prstGeom>
          <a:solidFill>
            <a:srgbClr val="def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DULTO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20 GRS. TO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427640" y="623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103640" y="5589720"/>
            <a:ext cx="4932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sma: [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]  135-145 mEq/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http://www.radioimagina.cl/wp-content/blogs.dir/103/files/2013/02/running.jpg"/>
          <p:cNvPicPr/>
          <p:nvPr/>
        </p:nvPicPr>
        <p:blipFill>
          <a:blip r:embed="rId1"/>
          <a:stretch/>
        </p:blipFill>
        <p:spPr>
          <a:xfrm>
            <a:off x="357120" y="1285920"/>
            <a:ext cx="2571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FUNCIONES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874872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porte de GLUCOSA y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imiento de la PRESION OSMOTICA extra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misión neuro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FUENTES NATURALES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L DE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A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11280" y="479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gesta diaria recomenda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&lt; 3 grs./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s://encrypted-tbn0.gstatic.com/images?q=tbn:ANd9GcQj14ngmxueL_Ez58sl81Xp8pQq-nH3o2tZ_SAuZyb6EDaflIPI2A"/>
          <p:cNvPicPr/>
          <p:nvPr/>
        </p:nvPicPr>
        <p:blipFill>
          <a:blip r:embed="rId1"/>
          <a:stretch/>
        </p:blipFill>
        <p:spPr>
          <a:xfrm>
            <a:off x="6429240" y="2786040"/>
            <a:ext cx="23720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BSOR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1727280" y="2781360"/>
            <a:ext cx="1344600" cy="1871640"/>
            <a:chOff x="1727280" y="2781360"/>
            <a:chExt cx="1344600" cy="1871640"/>
          </a:xfrm>
        </p:grpSpPr>
        <p:sp>
          <p:nvSpPr>
            <p:cNvPr id="78" name="Freeform 6"/>
            <p:cNvSpPr/>
            <p:nvPr/>
          </p:nvSpPr>
          <p:spPr>
            <a:xfrm>
              <a:off x="1727280" y="2781360"/>
              <a:ext cx="1199880" cy="187164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"/>
            <p:cNvSpPr/>
            <p:nvPr/>
          </p:nvSpPr>
          <p:spPr>
            <a:xfrm>
              <a:off x="1990800" y="2789280"/>
              <a:ext cx="1081080" cy="1727280"/>
            </a:xfrm>
            <a:prstGeom prst="pie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8"/>
          <p:cNvSpPr/>
          <p:nvPr/>
        </p:nvSpPr>
        <p:spPr>
          <a:xfrm rot="19789800">
            <a:off x="1511640" y="4436640"/>
            <a:ext cx="2627280" cy="58140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S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2484000" y="2205000"/>
            <a:ext cx="129708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826920" y="177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ORTE 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ANd9GcSKID_fqN0x19q6BOqvGOSMTNEoSZqVAzYg8lIN-PnuUV8RjeQJ"/>
          <p:cNvPicPr/>
          <p:nvPr/>
        </p:nvPicPr>
        <p:blipFill>
          <a:blip r:embed="rId1"/>
          <a:stretch/>
        </p:blipFill>
        <p:spPr>
          <a:xfrm>
            <a:off x="5435640" y="2276640"/>
            <a:ext cx="24019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ELIMINACION DE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e7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IÑ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UEMA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2627280" y="2852640"/>
            <a:ext cx="1582920" cy="432000"/>
          </a:xfrm>
          <a:prstGeom prst="rightArrow">
            <a:avLst>
              <a:gd name="adj1" fmla="val 50000"/>
              <a:gd name="adj2" fmla="val 916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211640" y="292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te en diarreas sev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2700360" y="371628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500720" y="3573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mas muy cálidos, deportistas, durante el ejercici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3780000" y="5300640"/>
            <a:ext cx="1582560" cy="432000"/>
          </a:xfrm>
          <a:prstGeom prst="rightArrow">
            <a:avLst>
              <a:gd name="adj1" fmla="val 50000"/>
              <a:gd name="adj2" fmla="val 9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580000" y="5229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érdida de líquid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2484360" y="1700280"/>
            <a:ext cx="1582920" cy="431640"/>
          </a:xfrm>
          <a:prstGeom prst="rightArrow">
            <a:avLst>
              <a:gd name="adj1" fmla="val 50000"/>
              <a:gd name="adj2" fmla="val 916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284720" y="170028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 VIA DE EXCRECION - REGU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157676"/>
              </a:gs>
              <a:gs pos="50000">
                <a:srgbClr val="2dffff"/>
              </a:gs>
              <a:gs pos="100000">
                <a:srgbClr val="1576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REGULACION DE LA REABSORCION DE SODIO EN RIÑ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324000" y="1341360"/>
            <a:ext cx="32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GIOTENSIN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324000" y="3068640"/>
            <a:ext cx="32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DOSTE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250920" y="4724280"/>
            <a:ext cx="32400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ATRIUR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427640" y="1484280"/>
            <a:ext cx="46083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.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TRANSPORTE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2Cl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3419640" y="1484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3780000" y="1701720"/>
            <a:ext cx="64908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3059280" y="2637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3276720" y="2637000"/>
            <a:ext cx="649080" cy="50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580000" y="3357720"/>
            <a:ext cx="3348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NALES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T. 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3635280" y="3573360"/>
            <a:ext cx="936720" cy="360360"/>
          </a:xfrm>
          <a:custGeom>
            <a:avLst/>
            <a:gdLst>
              <a:gd name="textAreaLeft" fmla="*/ 163800 w 936720"/>
              <a:gd name="textAreaRight" fmla="*/ 679320 w 93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4572000" y="3357720"/>
            <a:ext cx="360360" cy="863280"/>
          </a:xfrm>
          <a:prstGeom prst="upArrow">
            <a:avLst>
              <a:gd name="adj1" fmla="val 50000"/>
              <a:gd name="adj2" fmla="val 59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4932360" y="357336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4427640" y="522936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TRACION GLOMER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3348000" y="4940280"/>
            <a:ext cx="647640" cy="28908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3708360" y="5157720"/>
            <a:ext cx="64944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3348000" y="5732640"/>
            <a:ext cx="647640" cy="288720"/>
          </a:xfrm>
          <a:custGeom>
            <a:avLst/>
            <a:gdLst>
              <a:gd name="textAreaLeft" fmla="*/ 113400 w 647640"/>
              <a:gd name="textAreaRight" fmla="*/ 469800 w 647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3708360" y="5950080"/>
            <a:ext cx="649440" cy="503280"/>
          </a:xfrm>
          <a:prstGeom prst="ellipse">
            <a:avLst/>
          </a:prstGeom>
          <a:solidFill>
            <a:srgbClr val="def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427640" y="6093000"/>
            <a:ext cx="431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ABSORCION DE SO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0" y="5157720"/>
            <a:ext cx="324000" cy="1511280"/>
          </a:xfrm>
          <a:prstGeom prst="downArrow">
            <a:avLst>
              <a:gd name="adj1" fmla="val 50000"/>
              <a:gd name="adj2" fmla="val 11661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0" y="1484280"/>
            <a:ext cx="324000" cy="2665440"/>
          </a:xfrm>
          <a:prstGeom prst="upArrow">
            <a:avLst>
              <a:gd name="adj1" fmla="val 50000"/>
              <a:gd name="adj2" fmla="val 205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0:07:45Z</dcterms:created>
  <dc:creator>Usuario</dc:creator>
  <dc:description/>
  <dc:language>en-US</dc:language>
  <cp:lastModifiedBy>ali y facu</cp:lastModifiedBy>
  <dcterms:modified xsi:type="dcterms:W3CDTF">2014-12-14T15:06:09Z</dcterms:modified>
  <cp:revision>63</cp:revision>
  <dc:subject/>
  <dc:title>BIOELEMENTOS</dc:title>
</cp:coreProperties>
</file>